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359-DA0F-47AD-8FC2-0DC798C6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16D-152D-448A-BB8E-535CA83B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991-8A50-40A9-A1E6-383AA6BD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6B1-495F-4D3A-99EF-1F817E41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BC0-D774-4EC6-A606-E081CD2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FD2-DFDE-4704-9064-F9A12EB2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84E-DE26-436A-A49F-1E3B7EBF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835-9CA3-4BE8-B5AD-AF332F58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F82-2CD0-45B3-96BF-08D0DEF5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922-036C-4993-A433-61B55D4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EB2-41C8-4114-9521-C192C50E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F66-2B16-45BA-A3CD-B211AF04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BFCE-3DCD-47F9-B026-3B6D8212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wright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600200"/>
            <a:ext cx="51818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Airpla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666880"/>
            <a:ext cx="1752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0"/>
            <a:ext cx="3200400" cy="286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one and Drea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8, 2011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1048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73880" y="0"/>
            <a:ext cx="1770120" cy="134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73880" y="5516640"/>
            <a:ext cx="1770120" cy="134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770120" cy="13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5516640"/>
            <a:ext cx="17701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9880" y="5867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 Orville and Wilbur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89917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7284960"/>
            <a:ext cx="7632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Wright Bros."/>
          <p:cNvPicPr/>
          <p:nvPr/>
        </p:nvPicPr>
        <p:blipFill>
          <a:blip r:embed="rId1"/>
          <a:stretch/>
        </p:blipFill>
        <p:spPr>
          <a:xfrm>
            <a:off x="0" y="1143000"/>
            <a:ext cx="8381880" cy="2095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7672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12/1/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irpla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08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Air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e stayed in air for twelve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named the Wright fl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very small crowd watch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owd was skeptical about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e was mostly black and wh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: Orville and Wilbur W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ville and Wilbur learned about flight by watching buzz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ville lived from1871-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bur lived from 1867-19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ead many books about the mechanics of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cember 17, 2011, Orville and Wilbur announced that they will attempt to fly the first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5:30:01Z</dcterms:modified>
  <cp:revision>10</cp:revision>
  <dc:subject/>
  <dc:title>Slide 1</dc:title>
</cp:coreProperties>
</file>